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020A-7ABD-4D09-8D0E-E83B4C1EE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822B-F757-4DB4-B96F-D32FFBB6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E4667E-075C-405F-B4E8-D9CA1755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617094-4F99-4C57-B2F5-542A8DE1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8CE763-7F18-4221-921F-B8AB280A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3C21ED-A042-411E-974C-C6B34A92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5A45AA-BAC0-48A7-8CA7-40E58F94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0344A8-B46E-4CFB-964B-BF6C32F0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FE1D2B-DF01-4F4F-8871-508DCEAD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7CF624-7310-45E2-A944-AF57DF2A5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79E419-4B9A-4BCB-A199-C8642D00E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FAF41F-298D-429E-A420-143CA5341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95C2-C650-4BE5-961E-ED470350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EC061-9409-46C6-98A8-E964C47C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2F0B95-5200-425E-A303-ED4DBB24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2A14A-314C-4457-A126-E6893A3F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24CB4-E732-4966-9319-789FAA12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62EE0-754C-4C93-AD70-0DD6BE49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82954-9753-40AD-BDB5-8DBE84AE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ED3F83-0676-42FF-B6E9-824735F0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80D60-DE8E-49C5-8141-3ED06D41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415DD-F764-4CA1-93BA-71C0E113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25A4BF-A7E4-4009-A627-13D982D4C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C195-2F1E-495D-83DB-F9E7BB2E7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874253-B572-423A-9941-A49BAB830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A78D9-F71A-4BC0-96F8-239BA9563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03111-5E7A-4FD3-8204-22E77199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BDF94-FB87-438D-B24E-4259BBF2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48720-19A3-444E-AA0E-EA31770F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57BDC-1CF5-4765-BD09-88D423D9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80564-6B19-420F-8D33-7165BB03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FFF10-4F54-4A5A-B5B2-203510F7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4317A-997E-4002-923A-21D44485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FCF46C-2A1A-4FB9-A444-BD315F2C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6BDE-E105-4154-8155-7CAE17814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8415B-6B44-44F9-8925-1576F512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213B7-5411-4FAC-BBB0-7600EBFE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B50B0-6D42-401A-8561-23B71C7E9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AACBB6-F061-42D9-990A-60ED4510C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2D0218-674F-482B-92AF-9483914E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7D1146-CBBE-4ED1-9584-8C1AE0CA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0950D-FCF8-4A0F-B3AF-9728097A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FE2B23-EEE7-4A59-A4BF-E6EFFE03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8AB649-F6F5-4D1C-87B5-CFB0B57E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16C9B5-DCB8-472A-A0AC-C771EA2F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5288-CDA1-4DD8-87C1-B9536EE1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6DFFD-BE7F-4D07-8EC8-3A742D35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8457BF-698E-4E6E-8873-F0EC9682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74778F-2205-4177-9BEE-C5FDA2DD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347700-A580-4E3F-9FC7-83F021019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949592-5603-4636-B2C2-6FC7BDE83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7D3A-84E2-45BC-B214-FC84F7D5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26DD-B4B6-4B25-B1E2-F060991E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1336-9A43-43BD-A4D6-FEAF1502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93735-E726-40B2-86C0-DF9FCD34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259E-7B4A-4795-848B-498382DC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0F27-33A7-43FD-BB69-C1283D5C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C3AA-5649-4E9E-A541-A4FD3F45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8A0A-8DA4-46C6-B2AF-566214DD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CE13-297B-43D4-9001-388BD5C7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8BD2-C771-4347-8DBE-268EDE953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EF45-7237-4FD1-A71D-E6B70C774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79F8E-F422-4B84-AE1A-0DD3BFBB1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2716E-CD31-481E-9CD3-B7655D57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DE16A-BFDD-46A5-9EA0-26EB75E7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C0019-FBC0-4FB5-B909-2D9F144A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7CF20-5D6A-4DB3-B0C2-7F5E8C98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874E-B4B0-4C51-B133-3D6D3458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9A0D5-CDA3-41E1-981E-20ACB368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A2050-6471-4386-A34C-0643BE3D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FB3E7-7D0D-474A-89C4-DC3349EC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08133-0E5A-4716-A10A-7C863736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F9EF8-7C5D-4242-BB22-C73A1C42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31F83-77C1-4771-B428-D61B229FF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A5695-3B2C-439A-8362-A716E2BB7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191C2-62A1-490B-ADB4-FF0FBFAB5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C8387-C387-4A0E-A1C9-C46DBFF6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446ED-9D31-4056-8180-25FA753F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0365-99E4-40DA-A68B-D3BD60F7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640AD-AF53-4801-AE25-678ADCCB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04B37-552B-462F-8792-36076361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60135-B122-483B-93F4-B01532CD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4BD3A-B805-438E-BD4E-1D164F35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BB7D6-F556-4F60-945C-B20116B3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7D50D-B660-4338-B442-E89C72B4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62AD2-6275-4165-B781-9D73B984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50E0F-E42D-4709-84FD-B832F7BEB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2E82A-E0C2-4280-9A40-9333AA1D6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B9BB8-1A4F-4F8F-887E-9BBEE691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CB47-6357-4E7E-A949-2516A010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DD707-C909-4DBC-8A92-E1357041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F1337-31DF-4B8F-91DE-507FA221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67BE0-7A26-463A-A3E5-4A642CD5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F3401-F520-40BE-A7D8-AD96F71D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863A5-CDB4-48CC-9B13-6185C663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D7A18-4B76-475D-B88C-249BC883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BE0D0-2C6D-4EF9-A1AC-D44325BD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55AE1-201D-46BD-87E7-27CC200E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9DE7C-EA3D-43E9-BF00-FA7995F8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CFCF0-3C8A-4F6C-8FD9-6D6A58B5C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4F7F-6EE6-4B7B-AE73-368060E4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8E4DC-7B0E-4D0D-86F8-7615F4C3C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F4B39-D227-4A46-B333-19BDA1361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4878E-8243-4876-8E2B-34FBF648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2F260-37BE-4EA1-93BB-B28E7E6C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C0386-2921-4A09-BFB4-B9CC0912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36B19-6898-4BB5-AB04-8AE5D75E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230DA-A73B-422C-8214-AF7B10B5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D4002-607C-4BC4-991D-52194C28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C6A51-B3D4-4F9D-874A-FA92DB33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CDDDA-EDB1-4639-AAAE-0FE619AF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894D-3DD3-4763-B093-167B18A6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0016D-0854-46BA-84E2-77F09FBA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8F1A2-0D5D-41D1-A93D-8BA6FEFB3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AC972-D6C2-4C35-9BDC-30347B323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98C11-DA0C-4A60-B395-20B4E275F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3BF89-7C02-45B1-B906-3CE6D8F5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8CA5B-8B8B-4407-8A48-005F467B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BE4AF-D905-41AE-820D-24D13CED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24C8E-1687-4D54-8C2B-1007C504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E633F-55B8-4BAF-A6DF-6271013D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43224-8EA2-49A3-A64C-F67D6807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0A69-C846-476D-8B92-F6E27647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D5CB0-D466-4C26-9E69-4577F42F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90277-C3D4-4FA8-AFC4-A5732E1E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62CA5-65A2-43FE-B582-3943A898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E0B83-31F1-4E07-A32F-0265E19D3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325A0-8B50-4F7A-B612-ED3F106D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95BFFE-E732-4592-87B2-FF2EF5D48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302305-73E3-4A4F-9F55-C17BFE10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FCC9F3-8BDA-4D55-8DA6-BBE52AAF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77AE14-94B1-42E6-8D94-5E20E6F8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059386-C07E-4863-8984-4BA37707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6B7D-651B-4ACC-9C0F-445D5E78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DFA112-3D5A-40E4-848B-A31F86B7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1ED41D-3CCB-4C4B-9B84-B65736B4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E0AF68-F96D-4C09-BCF6-078DDB2A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C46392-C7F1-4C6B-896C-82625FFD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5EA45E-83E9-4EDA-AC14-3C622A41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FE5106-1DB9-44AE-AB7C-5FC2B3615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51DC69-7274-4C14-92F7-31BC7D6C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14E63A-CA56-4815-9761-9831A3EA1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537D04-DF4E-4A89-B70E-C366B7DA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58BA31-0FD2-4865-9EFD-7723008B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2E85-8F66-4734-844F-BCBA15F2500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79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79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ftr" idx="29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sldNum" idx="30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3B48-B620-4754-943C-EDE82FDFC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b7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4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63342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d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E80B-5ED5-4558-A8C6-0C2A69FF44F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9ddcd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aa88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b7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9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63342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86615a"/>
                </a:gs>
                <a:gs pos="100000">
                  <a:srgbClr val="7957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e9ddcd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1C46-FAE2-4BCB-A92F-00DF71A2D99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16BD-B472-4721-AD87-89CF4F1FC14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BFB0-B609-4A27-8A55-D475D9720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3454-C0F9-459E-890C-351B91C41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37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38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52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2bc"/>
                  </a:gs>
                  <a:gs pos="100000">
                    <a:srgbClr val="dbdac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6c5b0"/>
                  </a:gs>
                  <a:gs pos="50000">
                    <a:srgbClr val="dbdac3"/>
                  </a:gs>
                  <a:gs pos="100000">
                    <a:srgbClr val="c6c5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F2C4-85C6-4B86-94D9-BBDD2162F6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29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30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444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d2bc"/>
                  </a:gs>
                  <a:gs pos="100000">
                    <a:srgbClr val="dbdac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6c5b0"/>
                  </a:gs>
                  <a:gs pos="50000">
                    <a:srgbClr val="dbdac3"/>
                  </a:gs>
                  <a:gs pos="100000">
                    <a:srgbClr val="c6c5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16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1C9C-85F4-4639-AECA-E81BE9744B3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2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2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3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946F-8709-4680-846C-47071AACD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8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8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9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0E37-4D24-4E61-9932-13718173E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8658-EE5A-4F45-96C4-A2A06CCD5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74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74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5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file:///tmp/home/.config/libreoffice/4/user/gallery/frwrks0F.wav" TargetMode="External"/><Relationship Id="rId3" Type="http://schemas.microsoft.com/office/2007/relationships/media" Target="file:///tmp/home/.config/libreoffice/4/user/gallery/frwrks0F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2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j0074927.wav" TargetMode="External"/><Relationship Id="rId3" Type="http://schemas.microsoft.com/office/2007/relationships/media" Target="file:///tmp/home/.config/libreoffice/4/user/gallery/j0074927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file:///tmp/home/.config/libreoffice/4/user/gallery/j0075036.wav" TargetMode="External"/><Relationship Id="rId3" Type="http://schemas.microsoft.com/office/2007/relationships/media" Target="file:///tmp/home/.config/libreoffice/4/user/gallery/j0075036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audio" Target="file:///tmp/home/.config/libreoffice/4/user/gallery/MSj03884660000%5B1%5D.wav" TargetMode="External"/><Relationship Id="rId4" Type="http://schemas.microsoft.com/office/2007/relationships/media" Target="file:///tmp/home/.config/libreoffice/4/user/gallery/MSj03884660000%5B1%5D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audio" Target="file:///tmp/home/.config/libreoffice/4/user/gallery/MSj00749300000%5B1%5D.wav" TargetMode="External"/><Relationship Id="rId4" Type="http://schemas.microsoft.com/office/2007/relationships/media" Target="file:///tmp/home/.config/libreoffice/4/user/gallery/MSj00749300000%5B1%5D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astellar"/>
              </a:rPr>
              <a:t>What is the Study of geography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Geography is the study of the Earth and all its variet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There are 2 types of geograph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Physical: land, water, plants and animal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Kristen ITC"/>
              </a:rPr>
              <a:t>Human: peop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5" name="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3733920" cy="2424240"/>
          </a:xfrm>
          <a:prstGeom prst="rect">
            <a:avLst/>
          </a:prstGeom>
          <a:ln w="0">
            <a:noFill/>
          </a:ln>
        </p:spPr>
      </p:pic>
      <p:pic>
        <p:nvPicPr>
          <p:cNvPr id="95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5638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78" fill="hold"/>
                                        <p:tgtEl>
                                          <p:spTgt spid="9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56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b7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86400"/>
                </a:solidFill>
                <a:latin typeface="comic"/>
              </a:rPr>
              <a:t>Super job!!!</a:t>
            </a:r>
            <a:endParaRPr b="0" lang="en-US" sz="60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86400"/>
                </a:solidFill>
                <a:latin typeface="Verdana"/>
              </a:rPr>
              <a:t>Now you know about the 5 themes of geography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86400"/>
                </a:solidFill>
                <a:latin typeface="Verdana"/>
              </a:rPr>
              <a:t>Are you ready to make a poster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86400"/>
                </a:solidFill>
                <a:latin typeface="Verdana"/>
              </a:rPr>
              <a:t>I hope so!!!!!!!!!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86400"/>
                </a:solidFill>
                <a:latin typeface="Verdana"/>
              </a:rPr>
              <a:t>                             </a:t>
            </a:r>
            <a:r>
              <a:rPr b="0" lang="en-US" sz="4000" spc="-1" strike="noStrike">
                <a:solidFill>
                  <a:srgbClr val="c86400"/>
                </a:solidFill>
                <a:latin typeface="Verdana"/>
              </a:rPr>
              <a:t>Mr. 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11430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9" dur="1678" fill="hold"/>
                                        <p:tgtEl>
                                          <p:spTgt spid="9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770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2" dur="770" fill="hold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4" dur="770" fill="hold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6" dur="770" fill="hold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770"/>
                                        <p:tgtEl>
                                          <p:spTgt spid="9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3" dur="770" fill="hold"/>
                                        <p:tgtEl>
                                          <p:spTgt spid="9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5" dur="770" fill="hold"/>
                                        <p:tgtEl>
                                          <p:spTgt spid="9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7" dur="770" fill="hold"/>
                                        <p:tgtEl>
                                          <p:spTgt spid="9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770"/>
                                        <p:tgtEl>
                                          <p:spTgt spid="9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4" dur="770" fill="hold"/>
                                        <p:tgtEl>
                                          <p:spTgt spid="9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6" dur="770" fill="hold"/>
                                        <p:tgtEl>
                                          <p:spTgt spid="9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8" dur="770" fill="hold"/>
                                        <p:tgtEl>
                                          <p:spTgt spid="9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770"/>
                                        <p:tgtEl>
                                          <p:spTgt spid="9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5" dur="770" fill="hold"/>
                                        <p:tgtEl>
                                          <p:spTgt spid="9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7" dur="770" fill="hold"/>
                                        <p:tgtEl>
                                          <p:spTgt spid="9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9" dur="770" fill="hold"/>
                                        <p:tgtEl>
                                          <p:spTgt spid="9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Copperplate Gothic Bold"/>
              </a:rPr>
              <a:t>The 5 themes of geography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/Environment Inte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14479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5942" fill="hold"/>
                                        <p:tgtEl>
                                          <p:spTgt spid="9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9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9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9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59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5934b"/>
                </a:solidFill>
                <a:latin typeface="Tahoma"/>
              </a:rPr>
              <a:t>Location</a:t>
            </a:r>
            <a:endParaRPr b="0" lang="en-US" sz="72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ing where a specific place is on the Eart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types of 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Absolu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specific place on the Ear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Relativ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eral area on the ear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2" name="" descr=""/>
          <p:cNvPicPr/>
          <p:nvPr/>
        </p:nvPicPr>
        <p:blipFill>
          <a:blip r:embed="rId1"/>
          <a:stretch/>
        </p:blipFill>
        <p:spPr>
          <a:xfrm>
            <a:off x="689040" y="1828800"/>
            <a:ext cx="3711600" cy="3743280"/>
          </a:xfrm>
          <a:prstGeom prst="rect">
            <a:avLst/>
          </a:prstGeom>
          <a:ln w="0">
            <a:noFill/>
          </a:ln>
        </p:spPr>
      </p:pic>
      <p:pic>
        <p:nvPicPr>
          <p:cNvPr id="96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12952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3901" fill="hold"/>
                                        <p:tgtEl>
                                          <p:spTgt spid="9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" dur="2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9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9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9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63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8c7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5934b"/>
                </a:solidFill>
                <a:latin typeface="Tahoma"/>
              </a:rPr>
              <a:t>Can you name each an absolute location and a relative location?</a:t>
            </a:r>
            <a:br>
              <a:rPr sz="4800"/>
            </a:br>
            <a:endParaRPr b="0" lang="en-US" sz="48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ahoma"/>
              </a:rPr>
              <a:t>YES YOU CAN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aa00"/>
                </a:solidFill>
                <a:latin typeface="Elephant"/>
              </a:rPr>
              <a:t>Place</a:t>
            </a:r>
            <a:endParaRPr b="0" lang="en-US" sz="66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 includes those features and characteristics that give and area its own ident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characteristic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8" name="" descr=""/>
          <p:cNvPicPr/>
          <p:nvPr/>
        </p:nvPicPr>
        <p:blipFill>
          <a:blip r:embed="rId1"/>
          <a:stretch/>
        </p:blipFill>
        <p:spPr>
          <a:xfrm>
            <a:off x="4495680" y="1952640"/>
            <a:ext cx="4191120" cy="3935520"/>
          </a:xfrm>
          <a:prstGeom prst="rect">
            <a:avLst/>
          </a:prstGeom>
          <a:ln w="0">
            <a:noFill/>
          </a:ln>
        </p:spPr>
      </p:pic>
      <p:pic>
        <p:nvPicPr>
          <p:cNvPr id="969" name="" descr=""/>
          <p:cNvPicPr/>
          <p:nvPr/>
        </p:nvPicPr>
        <p:blipFill>
          <a:blip r:embed="rId2"/>
          <a:stretch/>
        </p:blipFill>
        <p:spPr>
          <a:xfrm>
            <a:off x="14479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70" name="" descr=""/>
          <p:cNvPicPr/>
          <p:nvPr/>
        </p:nvPicPr>
        <p:blipFill>
          <a:blip r:embed="rId3"/>
          <a:stretch/>
        </p:blipFill>
        <p:spPr>
          <a:xfrm>
            <a:off x="31240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9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7590" fill="hold"/>
                                        <p:tgtEl>
                                          <p:spTgt spid="9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090"/>
                            </p:stCondLst>
                            <p:childTnLst>
                              <p:par>
                                <p:cTn id="1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2223" fill="hold"/>
                                        <p:tgtEl>
                                          <p:spTgt spid="9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aa00"/>
                </a:solidFill>
                <a:latin typeface="Perpetua Titling MT"/>
              </a:rPr>
              <a:t>place</a:t>
            </a:r>
            <a:endParaRPr b="0" lang="en-US" sz="66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aa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In terms of place is DuBois, PA the same as Denver, C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aa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Why or why not…Is anything the same? Is anything differ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Footlight MT Light"/>
              </a:rPr>
              <a:t>Human/Environment Interactio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 and why people change there surroundin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 do people change the Earth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s it good/bad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n the Earth change itself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5" name="" descr=""/>
          <p:cNvPicPr/>
          <p:nvPr/>
        </p:nvPicPr>
        <p:blipFill>
          <a:blip r:embed="rId1"/>
          <a:stretch/>
        </p:blipFill>
        <p:spPr>
          <a:xfrm>
            <a:off x="1544760" y="1782720"/>
            <a:ext cx="1861920" cy="1820880"/>
          </a:xfrm>
          <a:prstGeom prst="rect">
            <a:avLst/>
          </a:prstGeom>
          <a:ln w="0">
            <a:noFill/>
          </a:ln>
        </p:spPr>
      </p:pic>
      <p:pic>
        <p:nvPicPr>
          <p:cNvPr id="976" name="" descr=""/>
          <p:cNvPicPr/>
          <p:nvPr/>
        </p:nvPicPr>
        <p:blipFill>
          <a:blip r:embed="rId2"/>
          <a:stretch/>
        </p:blipFill>
        <p:spPr>
          <a:xfrm>
            <a:off x="304920" y="3860640"/>
            <a:ext cx="4190760" cy="2311560"/>
          </a:xfrm>
          <a:prstGeom prst="rect">
            <a:avLst/>
          </a:prstGeom>
          <a:ln w="0">
            <a:noFill/>
          </a:ln>
        </p:spPr>
      </p:pic>
      <p:pic>
        <p:nvPicPr>
          <p:cNvPr id="977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74674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1179" fill="hold"/>
                                        <p:tgtEl>
                                          <p:spTgt spid="9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4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4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77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b7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baa88a"/>
                </a:solidFill>
                <a:latin typeface="Copperplate Gothic Bold"/>
              </a:rPr>
              <a:t>Movement</a:t>
            </a:r>
            <a:endParaRPr b="0" lang="en-US" sz="72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a88a"/>
                </a:solidFill>
                <a:latin typeface="Stencil"/>
              </a:rPr>
              <a:t>The way people, ideas, and goods move around the Earth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a88a"/>
                </a:solidFill>
                <a:latin typeface="Stencil"/>
              </a:rPr>
              <a:t>How and why does this happen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80" name="" descr=""/>
          <p:cNvPicPr/>
          <p:nvPr/>
        </p:nvPicPr>
        <p:blipFill>
          <a:blip r:embed="rId1"/>
          <a:stretch/>
        </p:blipFill>
        <p:spPr>
          <a:xfrm>
            <a:off x="4648320" y="1378080"/>
            <a:ext cx="4190760" cy="2538360"/>
          </a:xfrm>
          <a:prstGeom prst="rect">
            <a:avLst/>
          </a:prstGeom>
          <a:ln w="0">
            <a:noFill/>
          </a:ln>
        </p:spPr>
      </p:pic>
      <p:pic>
        <p:nvPicPr>
          <p:cNvPr id="981" name="" descr=""/>
          <p:cNvPicPr/>
          <p:nvPr/>
        </p:nvPicPr>
        <p:blipFill>
          <a:blip r:embed="rId2"/>
          <a:stretch/>
        </p:blipFill>
        <p:spPr>
          <a:xfrm>
            <a:off x="4724280" y="3962520"/>
            <a:ext cx="2244960" cy="2244600"/>
          </a:xfrm>
          <a:prstGeom prst="rect">
            <a:avLst/>
          </a:prstGeom>
          <a:ln w="0">
            <a:noFill/>
          </a:ln>
        </p:spPr>
      </p:pic>
      <p:pic>
        <p:nvPicPr>
          <p:cNvPr id="98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6858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7257" fill="hold"/>
                                        <p:tgtEl>
                                          <p:spTgt spid="9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77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5" dur="770" fill="hold"/>
                                        <p:tgtEl>
                                          <p:spTgt spid="9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7" dur="77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9" dur="77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82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33427"/>
            </a:gs>
            <a:gs pos="100000">
              <a:srgbClr val="9b7d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9ddcd"/>
                </a:solidFill>
                <a:latin typeface="Castellar"/>
              </a:rPr>
              <a:t>Regions</a:t>
            </a:r>
            <a:endParaRPr b="0" lang="en-US" sz="7200" spc="-1" strike="noStrike">
              <a:solidFill>
                <a:srgbClr val="e9ddcd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Regions are areas that are united together by one or more common characteristic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What is most of Brazil in South America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Rainfore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ae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What makes it a region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7925040" cy="2362320"/>
          </a:xfrm>
          <a:prstGeom prst="rect">
            <a:avLst/>
          </a:prstGeom>
          <a:ln w="0">
            <a:noFill/>
          </a:ln>
        </p:spPr>
      </p:pic>
      <p:pic>
        <p:nvPicPr>
          <p:cNvPr id="986" name="" descr=""/>
          <p:cNvPicPr/>
          <p:nvPr/>
        </p:nvPicPr>
        <p:blipFill>
          <a:blip r:embed="rId2"/>
          <a:stretch/>
        </p:blipFill>
        <p:spPr>
          <a:xfrm>
            <a:off x="82296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6" dur="20330" fill="hold"/>
                                        <p:tgtEl>
                                          <p:spTgt spid="9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77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2" dur="770" fill="hold"/>
                                        <p:tgtEl>
                                          <p:spTgt spid="9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4" dur="77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6" dur="77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0,-5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82,-2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0,-5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82,-2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0,-5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82,-2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0,-5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82,-2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0,-5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82,-2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0,-5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82,-2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0,-5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82,-2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0,-5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82,-2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01:55:51Z</dcterms:created>
  <dc:creator>dansnyder</dc:creator>
  <dc:description/>
  <dc:language>en-US</dc:language>
  <cp:lastModifiedBy>dansnyder</cp:lastModifiedBy>
  <dcterms:modified xsi:type="dcterms:W3CDTF">2006-08-31T13:28:42Z</dcterms:modified>
  <cp:revision>4</cp:revision>
  <dc:subject/>
  <dc:title>What is the Study of geography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